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FE1-CC62-483A-9FB5-52B7D3C9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5D3-90D2-478F-B910-6A990D73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E33-0135-4D7A-9AC8-EE4A8482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59E-E8BF-4DCE-A263-E051D633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47D-0727-42DC-BE7E-16F13E6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192-A3C9-4F3E-AB52-54E12D10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2DB-5312-42B3-B370-42CC8CE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F99-76AA-45A9-B049-8F47585E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4A7-B846-457C-99DC-91884F8A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C32-3A55-4505-9B84-F23B1FD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030-B4BA-4429-90A2-EEA5243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0D9-322D-404B-9015-6512C93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FB705-62C6-425B-8995-882C11EA7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4F4D8-76AA-4CF2-BE6E-37EAE9FFA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 bulbs light up in a closed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 bulbs light up in an open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bulb goes out in a series circuit, will the other bulbs stay l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circuit, the battery can be used as the 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Power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Res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Conducting 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circuit, the wire can be used as the 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Power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Res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Conducting 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circuit, a light bulb can be used as the 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Power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Res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Conducting 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batteri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light bulb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switch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batteri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light bulb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switch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batteri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light bulb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switch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2:00:37Z</dcterms:created>
  <dc:creator>Caroline Roth</dc:creator>
  <dc:description/>
  <dc:language>en-US</dc:language>
  <cp:lastModifiedBy>Caroline Roth</cp:lastModifiedBy>
  <cp:lastPrinted>2011-01-27T04:14:08Z</cp:lastPrinted>
  <dcterms:modified xsi:type="dcterms:W3CDTF">2011-02-07T03:51:11Z</dcterms:modified>
  <cp:revision>6</cp:revision>
  <dc:subject/>
  <dc:title>Slide 1</dc:title>
</cp:coreProperties>
</file>